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E9D-7ED6-4883-B54D-F0FF07FD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DEB-87F6-4287-BD9F-ECBB3E99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BA0-2C31-4B4D-9E3C-5AB59AA4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9C2-99EC-45B2-973E-7243D1D2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D32B-F649-477E-839F-D8CDC94B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865F-6B20-408F-813F-225C9BA7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CD40-CA41-429F-8580-54C67A93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ADD9-A86F-46FA-895A-B6F31B37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F4F4-E79A-460C-9346-25BFF90C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5BE3-125B-41C1-9B7E-A2BBBE84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2FE1-C352-4610-85A8-9A156B8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DD2-921F-413B-BA84-B07F0675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4E14-2A3A-4184-80C6-C3C0DB2D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47B2-82CF-4D86-B57F-9CABF07A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AD8B-BD11-4057-84C2-8546BA5F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B995-6B76-4D94-9579-C7474D41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2FA5-F0F9-4E2C-97AA-F43BBB53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DA42-D4AB-4AA3-8300-65DBC477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B4DD7-585B-4C28-BF42-B14A7B57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F0B1-222E-4793-B50E-3E1EDE1F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8AD1-F4AD-4ED8-928B-957ABAB5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7088-1857-442E-9B89-79E418E7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B96-2F0E-4770-A41C-A5115B3C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1FBFC-31A8-44C3-AEAA-44B3EF8F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B340-805A-4E8A-A7F1-616FCE15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4EBE-053D-495D-84E8-D190955A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5EAE9-6396-43DA-8387-88AAF83F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4731-54B3-4FF7-B713-102CB3F4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3DBA-E281-4BFF-8FD9-833854EA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3732-1AA0-408A-9370-037782E6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86BDB-87C5-4A01-AB24-4686E1AE46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A6611-1A97-4D59-A314-37046F374F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315E6-1411-4D35-A179-A2BF903A8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E8D-5470-4A64-8FDE-B72207D8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6697C-188A-4C7E-946E-FD14E7BDB7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F82D4-45BE-4085-BD28-476DF1C35C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9F18C-075E-4383-B192-EDE8623F6B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CDB7F-3113-4F27-9C70-D63271ECA8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A1FDE-1D86-4390-8AA0-6820B9A456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5745E-0552-4700-A1FB-2DA6118218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DB718-1AFE-409F-8C6A-ABD11B9D9F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C48EA-F956-4E05-AEAA-27AA623094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79C78-A08D-42E5-A6A0-EB821286E3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4080D-F5F2-4AEC-9C6F-84855452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778-4E8F-4C87-AB46-C05F75CC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69FABB-5EA0-4523-9764-28BFD509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6B134-3736-4B75-80D3-84A4C1D6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5C2E5-8562-4511-B864-48348F52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26A60-7AE6-4EDF-8E5A-5CC8F141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526D0-F292-4C14-B0D3-F1974B44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1D3B3-6294-4AA9-A0E3-A375F003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1A514-11A5-4597-A9B2-9642AE5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04CF31-8C09-477A-80DB-3EC85813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2EFCC-AFFB-441A-BF49-F0143FB4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7F269-E358-41FE-8B2C-A222A0C6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D96-5957-4944-8A45-DE4854A3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3E7CD-2907-4746-A8F4-E11F8266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A1B-56A4-4014-A378-62A7792F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F0D-4790-4B7F-A1FB-B660F0B0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C99-BC14-485D-80E1-0F27435C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9DC8-BF67-46A4-8999-FE2977F5225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D8A1-7CD5-444C-88C7-230FD96ADB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52C4-1B93-45AB-9203-1CA3466BB40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EA02-3845-4DA1-A78B-CAFEB1B6C5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32" descr="HRIM"/>
          <p:cNvPicPr/>
          <p:nvPr/>
        </p:nvPicPr>
        <p:blipFill>
          <a:blip r:embed="rId2"/>
          <a:stretch/>
        </p:blipFill>
        <p:spPr>
          <a:xfrm>
            <a:off x="8229600" y="609480"/>
            <a:ext cx="762120" cy="201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3" descr="logo_01"/>
          <p:cNvPicPr/>
          <p:nvPr/>
        </p:nvPicPr>
        <p:blipFill>
          <a:blip r:embed="rId3"/>
          <a:stretch/>
        </p:blipFill>
        <p:spPr>
          <a:xfrm>
            <a:off x="152280" y="6400800"/>
            <a:ext cx="65736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2" descr="HRIM"/>
          <p:cNvPicPr/>
          <p:nvPr/>
        </p:nvPicPr>
        <p:blipFill>
          <a:blip r:embed="rId2"/>
          <a:stretch/>
        </p:blipFill>
        <p:spPr>
          <a:xfrm>
            <a:off x="8229600" y="609480"/>
            <a:ext cx="762120" cy="20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logo_01"/>
          <p:cNvPicPr/>
          <p:nvPr/>
        </p:nvPicPr>
        <p:blipFill>
          <a:blip r:embed="rId3"/>
          <a:stretch/>
        </p:blipFill>
        <p:spPr>
          <a:xfrm>
            <a:off x="152280" y="6400800"/>
            <a:ext cx="657360" cy="26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3" descr="HRIM"/>
          <p:cNvPicPr/>
          <p:nvPr/>
        </p:nvPicPr>
        <p:blipFill>
          <a:blip r:embed="rId4"/>
          <a:stretch/>
        </p:blipFill>
        <p:spPr>
          <a:xfrm>
            <a:off x="152280" y="6269040"/>
            <a:ext cx="1067040" cy="28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4" descr="logo_01"/>
          <p:cNvPicPr/>
          <p:nvPr/>
        </p:nvPicPr>
        <p:blipFill>
          <a:blip r:embed="rId5"/>
          <a:stretch/>
        </p:blipFill>
        <p:spPr>
          <a:xfrm>
            <a:off x="8001000" y="6248520"/>
            <a:ext cx="885960" cy="355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D2C8-E3BA-4798-BC10-E18772E428A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1669-6713-40F9-8672-E45AC8082D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2" descr="HRIM"/>
          <p:cNvPicPr/>
          <p:nvPr/>
        </p:nvPicPr>
        <p:blipFill>
          <a:blip r:embed="rId2"/>
          <a:stretch/>
        </p:blipFill>
        <p:spPr>
          <a:xfrm>
            <a:off x="8229600" y="609480"/>
            <a:ext cx="762120" cy="20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3" descr="logo_01"/>
          <p:cNvPicPr/>
          <p:nvPr/>
        </p:nvPicPr>
        <p:blipFill>
          <a:blip r:embed="rId3"/>
          <a:stretch/>
        </p:blipFill>
        <p:spPr>
          <a:xfrm>
            <a:off x="152280" y="6400800"/>
            <a:ext cx="657360" cy="263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0"/>
          </p:nvPr>
        </p:nvSpPr>
        <p:spPr>
          <a:xfrm>
            <a:off x="2742840" y="6264000"/>
            <a:ext cx="28954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456840" y="624816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4CEB-9059-4183-AF37-296C0AC8E7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2" descr="HRIM"/>
          <p:cNvPicPr/>
          <p:nvPr/>
        </p:nvPicPr>
        <p:blipFill>
          <a:blip r:embed="rId2"/>
          <a:stretch/>
        </p:blipFill>
        <p:spPr>
          <a:xfrm>
            <a:off x="8229600" y="609480"/>
            <a:ext cx="762120" cy="20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3" descr="logo_01"/>
          <p:cNvPicPr/>
          <p:nvPr/>
        </p:nvPicPr>
        <p:blipFill>
          <a:blip r:embed="rId3"/>
          <a:stretch/>
        </p:blipFill>
        <p:spPr>
          <a:xfrm>
            <a:off x="152280" y="6400800"/>
            <a:ext cx="657360" cy="263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10C4-5791-4E2E-90E9-459C5E5D2E4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880D-66E7-44CB-8C60-5B3C8A8496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20040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Hotel Feasibility Analy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goal of this lesson is to provide the learner with an understanding of the process of performing a hotel feasibility study, as well as the importance of such a task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Flowchart: Process 5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7" name="Picture 7" descr="mbs1.jpg"/>
          <p:cNvPicPr/>
          <p:nvPr/>
        </p:nvPicPr>
        <p:blipFill>
          <a:blip r:embed="rId1"/>
          <a:stretch/>
        </p:blipFill>
        <p:spPr>
          <a:xfrm>
            <a:off x="0" y="6080040"/>
            <a:ext cx="2190600" cy="777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mbs1.jpg"/>
          <p:cNvPicPr/>
          <p:nvPr/>
        </p:nvPicPr>
        <p:blipFill>
          <a:blip r:embed="rId2"/>
          <a:stretch/>
        </p:blipFill>
        <p:spPr>
          <a:xfrm>
            <a:off x="6953400" y="6080040"/>
            <a:ext cx="21906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arke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tistics on visitor arriva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apshot of local econom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pected chang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verage length of stay of visitors in lo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6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57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 Breakdow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Templa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924680" cy="1596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61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truction Trend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Templa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3920" y="1930320"/>
            <a:ext cx="8691480" cy="386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65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erty Analy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34240" cy="4483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69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oom Rate Analy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309600" y="2058840"/>
            <a:ext cx="8453520" cy="3421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73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e Analysis 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gle and Double Occupa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143000" y="1784520"/>
            <a:ext cx="6553080" cy="2274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086600" cy="2400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Picture1a.jpg"/>
          <p:cNvPicPr/>
          <p:nvPr/>
        </p:nvPicPr>
        <p:blipFill>
          <a:blip r:embed="rId3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78" name="Flowchart: Process 5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enities Analysis-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3579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82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enities Analysis-I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762120" y="1851120"/>
            <a:ext cx="7543800" cy="4832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Picture1a.jpg"/>
          <p:cNvPicPr/>
          <p:nvPr/>
        </p:nvPicPr>
        <p:blipFill>
          <a:blip r:embed="rId2"/>
          <a:stretch/>
        </p:blipFill>
        <p:spPr>
          <a:xfrm>
            <a:off x="0" y="6380280"/>
            <a:ext cx="838080" cy="477720"/>
          </a:xfrm>
          <a:prstGeom prst="rect">
            <a:avLst/>
          </a:prstGeom>
          <a:ln w="0">
            <a:noFill/>
          </a:ln>
        </p:spPr>
      </p:pic>
      <p:sp>
        <p:nvSpPr>
          <p:cNvPr id="286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verall Property Evalu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05880" cy="4157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90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gment Breakdow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157960" cy="2198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229600" cy="2232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Picture1a.jpg"/>
          <p:cNvPicPr/>
          <p:nvPr/>
        </p:nvPicPr>
        <p:blipFill>
          <a:blip r:embed="rId3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95" name="Flowchart: Process 5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Lesson 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ine what is a Hotel Feasibility Stud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cribe the two phases of a Hotel Feasibility Stud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cribe the three major components of a Hotel Feasibility Stud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monstrate knowledge of important financial determina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22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erty Support Analy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486640" cy="40053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99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ea Lodging Faciliti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asonal Occupancy Analy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229600" cy="3508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03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imated Area Occupanc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mpl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439040" cy="206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8610480" cy="1791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Picture1a.jpg"/>
          <p:cNvPicPr/>
          <p:nvPr/>
        </p:nvPicPr>
        <p:blipFill>
          <a:blip r:embed="rId3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08" name="Flowchart: Process 5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derstanding Dema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243640" cy="1936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12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jected Deman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reakdow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62800" cy="14479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16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ojected Occupanc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Outlin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8543880" cy="23385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443800" cy="1852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Picture1a.jpg"/>
          <p:cNvPicPr/>
          <p:nvPr/>
        </p:nvPicPr>
        <p:blipFill>
          <a:blip r:embed="rId3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21" name="Flowchart: Process 5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bor Situ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there adequate labor supply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pecially at the middle-management or supervisory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uality of lab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bor costs projections – wages, benefits, Wage trends,  etc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ions? reasonable, flexible, and prepared to bargain in good fai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4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25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st Elements of a Proje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tr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est during constru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urniture, fixtures, and equip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ng equip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nt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-opening expen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rking capit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8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29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st of La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pends on whether land is actually purchased or own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 of land typically weighed based on the number of rooms in hotel. Can range from $500 per room to as high as $30,000 or $40,00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xes during construction and costs of clearing the land factored into overall c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2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33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st of Constru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rgest cost element in any hotel proj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 franchised, have to adhere to franchisor spe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$60,000 per-room cost of construction is considered satisfactory (Prevailing market scenario without interest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xed-price contrac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st more controlled, difficult to get because of the inflation prevalent both in labor and in construction materials, this is not often feasible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st-plus con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tractor’s profits are a percentage of the costs. Maximum ceiling on cost can be written into contra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6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37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What is a Feasibility Study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es the need for the proposed hotel must be investigated, estimated, documented and supported, so that the client can be assured that the proposal is justifi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sts Pertaining to Furnitu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Fixtur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Equip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ither developer buys from one-stop shop supplier or spreads out across several supplier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ont of house and back-of-the-house equipmen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ir-conditioning or heating, is considered to be part of the construction cos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$12,000 per room for furniture, fixtures, and equipment is considered acceptable (Of course depends on brand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0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41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perating Equip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nen, silver, china, glass ware, and, in some instances, uniform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ck-up inventories must be acqui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$8,000 per room is accep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4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45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vento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ventories can be broken down into the following categori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o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everag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eaning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per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uest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atione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gineering suppl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cessive inventories can tie up capital and create additional interest cost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$6,000 per room of for operating inventories should be considered satisfacto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8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49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-opening Expen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or to the opening of a hotel, expenses incurred for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-opening payroll, training costs, advertising, and sales expenses and travel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be factored into overall budge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pends on the pre-opening philosophies of the operator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$3,000 per room is considered optim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53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orking Capit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unds required to meet early payrolls and operating expenses (unpredictable time perio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termines cash flow health of the fir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ould amount to at least $2,000 per roo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6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57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Fe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project is a franchise, total cost and fee structure to be cle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0" name="Picture 5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61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s of Financ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ginal support (reducing a lot) from banks, mortgage lenders, and insurance companies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ivate groups of investors (Largest source of funding presently 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ld Bank or the Export—Import Bank for hotel and tourism development in various are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vernmental or tourism bodies in an effort to promote tourism in a specific countr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4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65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mportant Financia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termina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Net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Operating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Operating incom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profit realized from a business' own oper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I  =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Operating Income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* (1-tax rat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NOI = EBIT * (1-tax rat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BIT is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Earnings before Interest and Taxes (EBIT)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8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69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mportant Financial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termina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Interest Carry Ratio =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Net Operating Income / Loan Amoun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$100,000 / 750,000 = .13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ratio gives you an idea of the maximum interest rate that a loan's cash flow could carry. This example shows a 13% interest rate. The cash flow is great for this exampl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2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73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47fd8"/>
                </a:solidFill>
                <a:latin typeface="Calibri"/>
              </a:rPr>
              <a:t>Important Financial</a:t>
            </a:r>
            <a:br>
              <a:rPr sz="4000"/>
            </a:br>
            <a:r>
              <a:rPr b="0" lang="en-US" sz="4000" spc="-1" strike="noStrike">
                <a:solidFill>
                  <a:srgbClr val="347fd8"/>
                </a:solidFill>
                <a:latin typeface="Calibri"/>
              </a:rPr>
              <a:t> Determinan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bt Service Coverage Ratio =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Net Operating Income / Debt Servic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$100,000 / 65,601.47 = 1.52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higher the debt service coverage, the less risky the loan. Typical debt service coverage requirements range from 1.1 to 1.25. A 1.52 ratio reflects a good investme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6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77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47fd8"/>
                </a:solidFill>
                <a:latin typeface="Calibri"/>
              </a:rPr>
              <a:t>Feasibility Stud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tel feasibility entails three major compon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paration of a market feasibility study for the proj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imation of costs for all elements of the project 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termination of sources of financ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30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of Thum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80880" y="2057400"/>
          <a:ext cx="8229600" cy="3876840"/>
        </p:xfrm>
        <a:graphic>
          <a:graphicData uri="http://schemas.openxmlformats.org/drawingml/2006/table">
            <a:tbl>
              <a:tblPr/>
              <a:tblGrid>
                <a:gridCol w="5457960"/>
                <a:gridCol w="2771640"/>
              </a:tblGrid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Building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4,739,11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Non-building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1,618,859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Soft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861,15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164,550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mated Total Project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7,383,679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Cost Per Room (Total Project Cost/100 Roo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73,836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R to Determine Fea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ule of Thumb=Total Cost Per Key/1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73.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380" name="Picture 29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381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7fd8"/>
                </a:solidFill>
                <a:latin typeface="Calibri"/>
              </a:rPr>
              <a:t>Two Phases of a Hotel Feasibility Stud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Feasibi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conomic Feasibi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34" name="Flowchart: Process 4"/>
          <p:cNvSpPr/>
          <p:nvPr/>
        </p:nvSpPr>
        <p:spPr>
          <a:xfrm>
            <a:off x="8229600" y="304920"/>
            <a:ext cx="91440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e Sele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ximity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siness and Trade Centers, Highways, Traffic Levels, Key Attractions, Shopping Centers, Population Backu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te Specif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ze, Zoning Laws, height restrictions and parking requirements, Visibility, Accessibility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Picture 4" descr="Picture1a.jpg"/>
          <p:cNvPicPr/>
          <p:nvPr/>
        </p:nvPicPr>
        <p:blipFill>
          <a:blip r:embed="rId1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38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mpetitive Area Propert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prea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85748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3429000" cy="2787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Picture1a.jpg"/>
          <p:cNvPicPr/>
          <p:nvPr/>
        </p:nvPicPr>
        <p:blipFill>
          <a:blip r:embed="rId3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43" name="Flowchart: Process 5"/>
          <p:cNvSpPr/>
          <p:nvPr/>
        </p:nvSpPr>
        <p:spPr>
          <a:xfrm>
            <a:off x="8153280" y="457200"/>
            <a:ext cx="990720" cy="60948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ffic Count of Competiti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Are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667040" cy="480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Picture1a.jpg"/>
          <p:cNvPicPr/>
          <p:nvPr/>
        </p:nvPicPr>
        <p:blipFill>
          <a:blip r:embed="rId2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47" name="Flowchart: Process 4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y Location &amp; Siz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are importan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222960" y="1763640"/>
            <a:ext cx="2735280" cy="449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3200400" y="1752480"/>
            <a:ext cx="2755800" cy="450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1" name="Picture 6" descr=""/>
          <p:cNvPicPr/>
          <p:nvPr/>
        </p:nvPicPr>
        <p:blipFill>
          <a:blip r:embed="rId3"/>
          <a:stretch/>
        </p:blipFill>
        <p:spPr>
          <a:xfrm>
            <a:off x="204840" y="1763640"/>
            <a:ext cx="2741400" cy="449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2" name="Picture 6" descr="Picture1a.jpg"/>
          <p:cNvPicPr/>
          <p:nvPr/>
        </p:nvPicPr>
        <p:blipFill>
          <a:blip r:embed="rId4"/>
          <a:stretch/>
        </p:blipFill>
        <p:spPr>
          <a:xfrm>
            <a:off x="0" y="6324480"/>
            <a:ext cx="934920" cy="533520"/>
          </a:xfrm>
          <a:prstGeom prst="rect">
            <a:avLst/>
          </a:prstGeom>
          <a:ln w="0">
            <a:noFill/>
          </a:ln>
        </p:spPr>
      </p:pic>
      <p:sp>
        <p:nvSpPr>
          <p:cNvPr id="253" name="Flowchart: Process 6"/>
          <p:cNvSpPr/>
          <p:nvPr/>
        </p:nvSpPr>
        <p:spPr>
          <a:xfrm>
            <a:off x="7620120" y="304920"/>
            <a:ext cx="1523880" cy="761760"/>
          </a:xfrm>
          <a:prstGeom prst="flowChart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0:46:59Z</dcterms:created>
  <dc:creator>Srikanth Beldona</dc:creator>
  <dc:description/>
  <dc:language>en-US</dc:language>
  <cp:lastModifiedBy>robert</cp:lastModifiedBy>
  <dcterms:modified xsi:type="dcterms:W3CDTF">2011-04-14T03:40:18Z</dcterms:modified>
  <cp:revision>90</cp:revision>
  <dc:subject/>
  <dc:title>Feasibility Studies</dc:title>
</cp:coreProperties>
</file>